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4FD-8392-41F0-A324-069DEC63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C6A-065F-4096-8D26-749F7F15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220-C4CF-46A6-B462-E99A0BD5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272-2E8D-4491-AD4C-A225B423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DCEF1-E7B1-4A33-9893-A33DD451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305FE-6BA8-4E23-BCF5-5FEAFEEC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A2018-22A3-4DE5-A148-15A22945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85D1E-024D-4ABF-92F6-D16A923D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643D4-7D93-49B6-BF8E-B178453F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56C53-6E6A-413A-8D7D-1369B075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F48DD-6E9B-4E73-99DD-7522C3EE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03B3-64EC-4237-8AB6-01F6D634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9BBD6-4354-4173-B34D-7DAF22FB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5C9F7-5797-4C5C-BD00-A9E16A25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AED7C-66A2-4F67-9CBA-BCACCC28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61B8E-16E2-4DFC-BD86-4579F906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0083A-A908-4042-9117-A088D0EC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D3D-9234-4582-A9DB-5B164A99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651-841C-43DD-9542-F6682D47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C40-1FEF-45BD-B9EF-7E7D877D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D200-254E-4E28-A3D9-0F357AA7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3C74-4982-47C3-BE99-BACEEE68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17D-1E64-43A0-BFCF-0F1FA21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2B0-744F-4BE7-8877-117365F0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2722-2A85-4E5E-B0EC-CD00B35288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d2f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651A-2A36-443F-8E12-544D7351F9FF}" type="slidenum">
              <a:rPr b="0" lang="ru-RU" sz="1200" spc="-1" strike="noStrike">
                <a:solidFill>
                  <a:srgbClr val="ffd2f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hukchi_boats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КОТСКИ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ТОНОМНЫ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УГ РФ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3" name="Рисунок 2" descr="ЧАО.gif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чукчи мо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сни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зык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нцы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6760" y="57146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d8ff"/>
                </a:solidFill>
                <a:latin typeface="Arial"/>
              </a:rPr>
              <a:t>Чукотская резная кость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2333520" cy="2168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44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image0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6048000"/>
            <a:ext cx="840096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Ремесло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резьба по кости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gallery_20018_163_243685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ЧУДО Чукотской природы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еверное сияни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0040" y="2571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1" lang="ru-RU" sz="9600" spc="-1" strike="noStrike">
                <a:solidFill>
                  <a:srgbClr val="ffd2f5"/>
                </a:solidFill>
                <a:latin typeface="Arial"/>
              </a:rPr>
              <a:t>!!!</a:t>
            </a:r>
            <a:endParaRPr b="0" lang="en-US" sz="96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29120" y="856800"/>
            <a:ext cx="36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&lt;&lt;&lt;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лаг ЧА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5" name="Рисунок 2" descr="1920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785880" y="4214880"/>
            <a:ext cx="36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&gt;&gt;&gt;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О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27" name="Рисунок 4" descr="19203.jpg"/>
          <p:cNvPicPr/>
          <p:nvPr/>
        </p:nvPicPr>
        <p:blipFill>
          <a:blip r:embed="rId2"/>
          <a:stretch/>
        </p:blipFill>
        <p:spPr>
          <a:xfrm>
            <a:off x="6215040" y="3240000"/>
            <a:ext cx="29289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енное населени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чукчи (1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72 че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9" name="Рисунок 5" descr="1381890734_voiny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яран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002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яранг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-2214720" y="9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Жилище</a:t>
            </a:r>
            <a:r>
              <a:rPr b="0" lang="en-US" sz="4400" spc="-1" strike="noStrike" u="sng">
                <a:solidFill>
                  <a:srgbClr val="0049db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олен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5586480"/>
            <a:ext cx="82296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9db"/>
                </a:solidFill>
                <a:latin typeface="Arial"/>
              </a:rPr>
              <a:t>оленеводств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0200" y="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1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http://upload.wikimedia.org/wikipedia/commons/thumb/7/76/Chukchi_boats.jpg/300px-Chukchi_boa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610000"/>
            <a:ext cx="5689440" cy="3281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_Моржи, ЗФИ. Фото - А. Каменев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морская охот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1600200"/>
            <a:ext cx="4859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Чукотская одежда </a:t>
            </a:r>
            <a:r>
              <a:rPr b="1" lang="ru-RU" sz="2800" spc="-1" strike="noStrike">
                <a:solidFill>
                  <a:srgbClr val="ffd2f5"/>
                </a:solidFill>
                <a:latin typeface="Arial"/>
              </a:rPr>
              <a:t>«кухлянка»</a:t>
            </a: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 - двойная меховая рубаха  длиной до колен или короче; нижняя рубаха надевалась мехом внутрь, верхняя—мехом наружу. Кухлянка подпоясывалась ремнем, так что образовывался напуск. К ремню привешивался нож, кисет и другие предметы. </a:t>
            </a: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713400" cy="4608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2225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55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Национальная одежда чукч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кухлянка и торбаса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85880" y="107136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редства передвижения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357280" y="4500720"/>
            <a:ext cx="84247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ты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3786120" y="3436920"/>
            <a:ext cx="5357880" cy="342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5332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000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укотский</a:t>
            </a: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шаман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ечи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сказыва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лдует</a:t>
            </a:r>
            <a:endParaRPr b="0" lang="en-US" sz="40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48" name="Содержимое 3" descr="шаман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31:41Z</dcterms:created>
  <dc:creator>Артём</dc:creator>
  <dc:description/>
  <dc:language>en-US</dc:language>
  <cp:lastModifiedBy>Лена</cp:lastModifiedBy>
  <dcterms:modified xsi:type="dcterms:W3CDTF">2016-01-28T13:24:55Z</dcterms:modified>
  <cp:revision>36</cp:revision>
  <dc:subject/>
  <dc:title>Чукчи</dc:title>
</cp:coreProperties>
</file>